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B9B-78E7-41DD-9677-8DD88976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619-D046-493B-966B-0539C463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998-FE28-4E4E-82F0-288CC9D2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98B-DCF1-4050-B366-A7707268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12F-DEF3-47EF-B487-3C62BB5B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127-AC91-4192-925F-936AADBE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9FB-31C4-4F13-A612-AEEC93B4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C3C-6E12-4150-821E-C5A6CDEF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1DD-6029-4F38-B9A9-ABF3936F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5FA-524D-411D-9F3B-E272559C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FFC-3AC8-420C-ACDD-A614110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C70-EC22-4100-A2AB-AFE080E5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7AFD-DE33-4BC8-8CFA-A0F36B9B5C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571680" y="239760"/>
            <a:ext cx="7332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HI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28592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euter noun with genitives in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eclining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ν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671480" y="234648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θνος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ε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τος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λ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ρ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ρος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2500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 (pl. Genti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86200" y="31291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86200" y="37386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786200" y="4357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, part, lim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786200" y="4957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,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86200" y="5586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ntain, 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671480" y="1233360"/>
            <a:ext cx="40006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θ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ευ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οτ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λος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786200" y="13874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tude, large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786200" y="2016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(pl. proper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786200" y="2625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786200" y="3244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,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500040" y="386244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masculine noun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σιλε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1671480" y="4805280"/>
            <a:ext cx="25005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χιερευς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ιλευς (1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4786200" y="4981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priest, chief 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4786200" y="5581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214280" y="1214280"/>
            <a:ext cx="2957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μματευς (63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ευ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4786200" y="13921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ibe, cl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786200" y="1992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42960" y="2786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feminine noun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ι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200240" y="3714840"/>
            <a:ext cx="3214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στασις 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νωσι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μις (1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λιψις (45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829040" y="38718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829040" y="450072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829040" y="510048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, mi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829040" y="57150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ering,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300320" y="1143000"/>
            <a:ext cx="32144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ρισι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κλησι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στις (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λις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ιδησις (30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929120" y="1300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929120" y="19288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929120" y="25383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929120" y="3138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,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929120" y="3753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42800" y="4433760"/>
            <a:ext cx="850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adjective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ηθ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285920" y="5043600"/>
            <a:ext cx="25002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η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θενη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929120" y="51958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, truthful, genu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929120" y="58244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, s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285920" y="2071800"/>
            <a:ext cx="25002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ς (1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α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ἱς μια ἑν (3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δεις (2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δεις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929120" y="2224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, every,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929120" y="28526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, e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34527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, a 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4095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ne,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47005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ne,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57120" y="1714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masculine words with irregular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071720" y="2752560"/>
            <a:ext cx="35002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ωϋσης (8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υς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143240" y="29145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es,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ωϋσης, Μωϋσην, Μωϋσεως, Μωϋσε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ωϋσῃ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143240" y="41338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d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υς, νουν, νοος, νο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13:13Z</dcterms:created>
  <dc:creator>Sarah</dc:creator>
  <dc:description/>
  <dc:language>en-US</dc:language>
  <cp:lastModifiedBy>Sarah</cp:lastModifiedBy>
  <dcterms:modified xsi:type="dcterms:W3CDTF">2009-07-09T16:30:30Z</dcterms:modified>
  <cp:revision>22</cp:revision>
  <dc:subject/>
  <dc:title>Slide 1</dc:title>
</cp:coreProperties>
</file>